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8E4-7BF5-4B24-8DCF-62C85150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F52-F7EE-4F06-A6E1-BA8721B7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1D1-99D7-4A44-8332-E5578FBD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4FB-0DAB-4FD8-8E56-AAC80F09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975A-E3A7-403B-BF65-90633401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3C0E-2435-44E9-99AE-80B38E8F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6A60-6E30-4722-8396-2C59E7A9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162F-70C1-4208-8B94-B084E4DF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356F-2946-4B78-A799-EDCC2F77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C4DF-F24A-4DF2-BFCF-CD651EE6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B3D9-286E-408B-8007-B0C59919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926-BB6C-4AF9-8C07-0AF95770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E5B0-401F-4AFC-8697-1F80A28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283A-9F8D-48AE-8AA5-EF251F62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1DC4-8290-4D39-9CA9-862EFE34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9DFA-6F8B-4711-B81E-65628256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101F-5B67-444F-84DD-6D0DBDED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2D89-5B98-4BFD-878E-C93641F4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A2A6-6826-43A2-ABA6-76D48C23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73AE-1E3D-43EB-850C-41E0206D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3CFA-0626-4D24-841A-91D233F7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04A9-D269-4581-87CE-DDD8DF2A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E97-4B72-4C06-8EC7-9A4DFA3D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C50F-22E9-4ABE-86E6-87176D1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9D29-FE40-404D-BC9F-35FB0A38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ED13D-A6B6-44C9-8C2D-F24EBE5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9C6B-E99A-4D0E-938C-460D6DE7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0E6B-73E1-4FC5-8ACE-62A68A91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71D1-D0D9-4075-8DC8-A2F80C85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C0AA-07FA-47BD-A978-295A91A1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FAB7-0FB5-4E97-B924-DDBC4C33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9539-EBC1-485F-8B4C-197FD66A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3AEA-B275-458A-B7ED-3326D277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5DF-1B86-43F1-BB8F-77C638FB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15FA-9CE3-4F42-B600-0F57090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BF281-16E3-4288-B311-F8D86887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6E8B-0EE7-46DB-A4B1-F796B8BE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C828-306B-4A4A-9A2D-930E65F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803B-97AE-44C1-8AD8-323AF92F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95FD-8FAA-42B8-88E6-4C1FDAB5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41BF-0753-4877-B664-4E6021D8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A92D-BE99-453F-8BE7-3F9375D4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537D-7816-4B7D-988E-68296A0A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6E7C6-4218-45AB-B147-A5C0CB41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5D2-4E3E-477E-A8F6-FD8D614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AED2C-16D0-4426-8585-508A926A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2FD22-D9EC-4752-B137-71E9E2D8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B7A3-3986-454F-B5EA-98633732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C22DA-609A-4621-883F-719B1CEE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BB5A9-4CB3-43F1-B819-8C2D42B0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82A19-F433-4C0C-902E-C32241E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46BF-0DE2-49E1-B275-7B12560C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4ED46-5A48-4047-8F67-D61BCE4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622BF-5BBB-4987-95AB-B0B37B5E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7B5C-0BF1-41F0-81D0-A36B1BA0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45E-B9E2-4FEC-AFCA-FA0E9A2A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A465-CD2D-42F7-9751-88A705D4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3E02A-B1C8-42BF-8E04-530A0ED6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A43F5-760E-4D9E-A7CD-BED2E46B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53A4-B96C-4A7F-9CE4-235EDCBE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278DE-CDC0-4ECA-80C6-BFAD6767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36A49-5C53-46A8-B00F-1ACFCD9D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2E398-1743-4013-B9EC-1DBB799D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5F87-74D5-4BFB-8196-FC054B57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0F968-F89D-486B-AD63-80C136FC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7A5B7-A49D-4153-8FDB-C832179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8B1-59BA-416A-8F8D-808AD508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B6E53-F49D-4B3C-8B89-10FB530F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A679-8C45-40A0-8C7A-6EA30745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0642C-E952-45CF-8B77-DB8D0A09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FB734-08B2-4FF6-BED8-AF766886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68DD0-5CB3-4F15-9873-6A1BE3AE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8FFE8-AFC5-4D58-B424-666551FF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E26B-4F0C-4ADE-9EC0-CFE1DE70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A6063-4338-4A64-9034-88639436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EE27D-469A-4FD2-9EC5-B116A1AD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74479-0D42-424C-B356-33F8B34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AF4-EC13-4EEF-851A-B5FF003B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47EB9-A34D-4EA5-8178-91EA5F4D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DB42-2C5B-4C99-AF06-CEEB15EC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2A2B2-47BB-4F6B-832A-25A0D666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E08E-CAD7-41C9-B430-516F9B1A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C3CC3-8163-4467-9BED-A7C85FAC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B52-DEB9-4FBD-BF44-CAC2C9B3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4AB5-140A-4959-8D3A-C493ED37F8B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283E-0C3F-4DF1-A6BB-FD531BE43A80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0160-F2FB-4309-8A39-4E4DD97A373B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B482-AE10-435C-AC80-3B2B20F085E8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1107-658F-4D52-B83A-99D6E486FC05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A639-3673-4D26-AEB1-FCF8398C5BE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CAEF-2903-43D7-8AAD-A3B508D2026C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正方形/長方形 28"/>
          <p:cNvSpPr/>
          <p:nvPr/>
        </p:nvSpPr>
        <p:spPr>
          <a:xfrm>
            <a:off x="533520" y="2905200"/>
            <a:ext cx="4325760" cy="287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正方形/長方形 26"/>
          <p:cNvSpPr/>
          <p:nvPr/>
        </p:nvSpPr>
        <p:spPr>
          <a:xfrm>
            <a:off x="528480" y="1844640"/>
            <a:ext cx="1595520" cy="28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428760" y="2133720"/>
            <a:ext cx="579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海外の紅茶は、価格重視の商品が多い為、安価な茶葉を原料にしている商品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多く見受けられます。そして、安価な茶葉のデメリットとなる品質をカバーする為に、フレーバーを添加するなどしており、</a:t>
            </a:r>
            <a:r>
              <a:rPr b="0" lang="ja-JP" sz="1200" spc="-1" strike="noStrike">
                <a:solidFill>
                  <a:srgbClr val="ff0000"/>
                </a:solidFill>
                <a:latin typeface="小塚ゴシック Pr6N L"/>
                <a:ea typeface="小塚ゴシック Pr6N L"/>
              </a:rPr>
              <a:t>ストレートティーが少ない</a:t>
            </a:r>
            <a:r>
              <a:rPr b="0" lang="ja-JP" sz="12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傾向にあ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6507000" y="4743360"/>
            <a:ext cx="161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静岡紅茶 ティーバッ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希望小売価格：</a:t>
            </a:r>
            <a:r>
              <a:rPr b="0" lang="en-US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900</a:t>
            </a: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円（税別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内容量：</a:t>
            </a:r>
            <a:r>
              <a:rPr b="0" lang="en-US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70</a:t>
            </a: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ｇ（</a:t>
            </a:r>
            <a:r>
              <a:rPr b="0" lang="en-US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2</a:t>
            </a: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ｇ</a:t>
            </a:r>
            <a:r>
              <a:rPr b="0" lang="en-US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×35</a:t>
            </a: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JAN</a:t>
            </a: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49945401120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賞味期限：</a:t>
            </a:r>
            <a:r>
              <a:rPr b="0" lang="en-US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ヶ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商品サイズ：</a:t>
            </a:r>
            <a:r>
              <a:rPr b="0" lang="en-US" sz="1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W160×H230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テキスト ボックス 7"/>
          <p:cNvSpPr/>
          <p:nvPr/>
        </p:nvSpPr>
        <p:spPr>
          <a:xfrm>
            <a:off x="6405480" y="5818320"/>
            <a:ext cx="22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保存に便利なチャック付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テキスト ボックス 4"/>
          <p:cNvSpPr/>
          <p:nvPr/>
        </p:nvSpPr>
        <p:spPr>
          <a:xfrm>
            <a:off x="560520" y="2905200"/>
            <a:ext cx="422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静岡紅茶の特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テキスト ボックス 20"/>
          <p:cNvSpPr/>
          <p:nvPr/>
        </p:nvSpPr>
        <p:spPr>
          <a:xfrm>
            <a:off x="576360" y="184464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海外紅茶の特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68360" y="3213000"/>
            <a:ext cx="575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緑茶を作っている農家さんが作った紅茶です。品種こそ異なりますが、同じ静岡県の茶園で圃場管理しています。茶職人が作った紅茶には、緑茶と同じようなこだわりと製法を投じて原料を作っている為、</a:t>
            </a:r>
            <a:r>
              <a:rPr b="0" lang="ja-JP" sz="1200" spc="-1" strike="noStrike">
                <a:solidFill>
                  <a:srgbClr val="ff0000"/>
                </a:solidFill>
                <a:latin typeface="小塚ゴシック Pr6N L"/>
                <a:ea typeface="小塚ゴシック Pr6N L"/>
              </a:rPr>
              <a:t>嫌な酸味や渋みがありません</a:t>
            </a:r>
            <a:r>
              <a:rPr b="0" lang="ja-JP" sz="12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その為、</a:t>
            </a:r>
            <a:r>
              <a:rPr b="0" lang="ja-JP" sz="1200" spc="-1" strike="noStrike">
                <a:solidFill>
                  <a:srgbClr val="ff0000"/>
                </a:solidFill>
                <a:latin typeface="小塚ゴシック Pr6N L"/>
                <a:ea typeface="小塚ゴシック Pr6N L"/>
              </a:rPr>
              <a:t>ミルクティーには向いていません</a:t>
            </a:r>
            <a:r>
              <a:rPr b="0" lang="ja-JP" sz="12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。ストレートティーとして、</a:t>
            </a:r>
            <a:r>
              <a:rPr b="0" lang="ja-JP" sz="1200" spc="-1" strike="noStrike" u="sng">
                <a:solidFill>
                  <a:srgbClr val="ff0000"/>
                </a:solidFill>
                <a:uFillTx/>
                <a:latin typeface="小塚ゴシック Pr6N L"/>
                <a:ea typeface="小塚ゴシック Pr6N L"/>
              </a:rPr>
              <a:t>茶葉そのものの味わいを好まれる方に、特におすすめ</a:t>
            </a:r>
            <a:r>
              <a:rPr b="0" lang="ja-JP" sz="1200" spc="-1" strike="noStrike">
                <a:solidFill>
                  <a:srgbClr val="000000"/>
                </a:solidFill>
                <a:latin typeface="小塚ゴシック Pr6N L"/>
                <a:ea typeface="小塚ゴシック Pr6N L"/>
              </a:rPr>
              <a:t>の紅茶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テキスト ボックス 11"/>
          <p:cNvSpPr/>
          <p:nvPr/>
        </p:nvSpPr>
        <p:spPr>
          <a:xfrm>
            <a:off x="528480" y="6181560"/>
            <a:ext cx="450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一煎タイプ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ｇティーバッグです。１個でおよ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㏄程度浸出できます。　茶葉がよくひろがる、三角タイプ（ひも付き）のティーバッグ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7885080" y="6216480"/>
            <a:ext cx="1025640" cy="452520"/>
          </a:xfrm>
          <a:prstGeom prst="rect">
            <a:avLst/>
          </a:prstGeom>
          <a:ln w="0">
            <a:noFill/>
          </a:ln>
        </p:spPr>
      </p:pic>
      <p:pic>
        <p:nvPicPr>
          <p:cNvPr id="345" name="図 2" descr=""/>
          <p:cNvPicPr/>
          <p:nvPr/>
        </p:nvPicPr>
        <p:blipFill>
          <a:blip r:embed="rId2"/>
          <a:stretch/>
        </p:blipFill>
        <p:spPr>
          <a:xfrm>
            <a:off x="2627280" y="4567320"/>
            <a:ext cx="2405160" cy="1603440"/>
          </a:xfrm>
          <a:prstGeom prst="rect">
            <a:avLst/>
          </a:prstGeom>
          <a:ln w="0">
            <a:noFill/>
          </a:ln>
        </p:spPr>
      </p:pic>
      <p:pic>
        <p:nvPicPr>
          <p:cNvPr id="346" name="図 3" descr=""/>
          <p:cNvPicPr/>
          <p:nvPr/>
        </p:nvPicPr>
        <p:blipFill>
          <a:blip r:embed="rId3"/>
          <a:stretch/>
        </p:blipFill>
        <p:spPr>
          <a:xfrm>
            <a:off x="539640" y="4567320"/>
            <a:ext cx="1990800" cy="1603440"/>
          </a:xfrm>
          <a:prstGeom prst="rect">
            <a:avLst/>
          </a:prstGeom>
          <a:ln w="0">
            <a:noFill/>
          </a:ln>
        </p:spPr>
      </p:pic>
      <p:pic>
        <p:nvPicPr>
          <p:cNvPr id="347" name="図 5" descr=""/>
          <p:cNvPicPr/>
          <p:nvPr/>
        </p:nvPicPr>
        <p:blipFill>
          <a:blip r:embed="rId4"/>
          <a:stretch/>
        </p:blipFill>
        <p:spPr>
          <a:xfrm>
            <a:off x="4359240" y="4559400"/>
            <a:ext cx="2151000" cy="2043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395280" y="790560"/>
            <a:ext cx="6199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静岡県産の紅茶ティーバッ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テキスト ボックス 30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今、注目の和紅茶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テキスト ボックス 8"/>
          <p:cNvSpPr/>
          <p:nvPr/>
        </p:nvSpPr>
        <p:spPr>
          <a:xfrm>
            <a:off x="5043600" y="5796000"/>
            <a:ext cx="124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同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ｇでも、ティーバッグサイズ、ティーバッグ材質が異なりま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図 2" descr=""/>
          <p:cNvPicPr/>
          <p:nvPr/>
        </p:nvPicPr>
        <p:blipFill>
          <a:blip r:embed="rId5"/>
          <a:stretch/>
        </p:blipFill>
        <p:spPr>
          <a:xfrm>
            <a:off x="6386400" y="1898640"/>
            <a:ext cx="20322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15:25Z</dcterms:created>
  <dc:creator>カネイ一言製茶㈱　岩瀬</dc:creator>
  <dc:description/>
  <dc:language>en-US</dc:language>
  <cp:lastModifiedBy>長舩　知行</cp:lastModifiedBy>
  <cp:lastPrinted>2019-01-24T05:00:51Z</cp:lastPrinted>
  <dcterms:modified xsi:type="dcterms:W3CDTF">2019-01-24T05:01:04Z</dcterms:modified>
  <cp:revision>292</cp:revision>
  <dc:subject/>
  <dc:title>三井食品㈱様</dc:title>
</cp:coreProperties>
</file>