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72B-4892-4507-B8B6-51BEE347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003-17F9-4A08-A15B-334222B1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160-BFF4-4EFA-BA35-50EC134E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E87-B8EC-4A22-B054-337A3243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D470-09DE-4C47-9BF9-7306F8F0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E32F-5380-44B2-9FD3-29822397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6EF-60B1-4E48-BAF2-BBF8F02D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6747-F5E2-42A8-A560-56E29DCF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AE7E-1880-4857-9560-69AD3685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43DA-512C-4413-9999-AB02ED75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3166-9C23-4FFE-909D-1B22FEE5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4EE-3934-4426-8364-479F06E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4AC8-64D7-4769-991C-D4E81E20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6EA6-3B71-47EC-BB48-EB9D63D4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1255-11E6-4B17-A515-8AD746CD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E708-E176-4D53-BCE0-A7FB9715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BB59-DDD9-43E9-AFBB-16F6CCBB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5D6A9-CD9A-4AF4-9CF0-14BB6580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C41D-4CC3-4C30-8D74-F15405FC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91DE-6DEF-4210-A6FE-CB8E978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1B4F-90DA-4E9D-8CA1-8A46667C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5E61-E935-4267-903D-4075EADB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507-6E61-441A-BD25-A6616414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654E-EE30-4CE4-99F9-EAE47171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A880-3886-4837-BCF2-834AC867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38C2-EE87-416B-95C4-4A446F61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523C-453D-4FDA-BBD6-25415EC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173A-CA14-4BBC-9165-2A67121A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700A-38E0-4E08-9D50-EB54A4FE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841E-11B8-48BE-8A67-80E294D9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DA71-F797-4497-877E-CFFE8203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F9B9-2AE0-4733-89E7-4320A9E8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98F4-D72C-48B4-84BB-9E86E11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884-0FAB-4C02-B7A7-6C0E63FE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4061E-E477-4BF4-B298-C2884049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F7FD-7C94-4B0F-B67D-E9B9D084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9DBCF-FEF1-42F1-BFC5-95917012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9EAD-610A-4221-9A50-11FD7542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656C-1F85-4B1F-A143-801C393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7393-0D68-445E-B9C7-7B618F4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280CD-C97F-4838-B32F-F8161791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1B08-0295-4976-90AE-B91D3CDB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1D7D-F23C-4DAC-B4BC-1475D3EA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9F135-E26E-42F5-B1F1-0CBFB791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597-479D-41C1-86F2-2F158390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C524-ADE6-485C-BE00-C4E875A8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35673-0257-4DB5-97E7-A23D7117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5E87E-E0FB-41FA-A1D1-453E3D38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597C6-8161-4FCB-99FD-BB643631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72EE0-9AAF-4064-9F3A-5734CC55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63634-D720-4347-86BF-A56E6F2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953B-52AD-411D-B50D-10189BA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429D-D429-4E81-B82D-967F40A4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88F8-D07A-4BD0-8ACD-327B9C15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424D8-924E-45AC-B9CA-68FD3A76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33A-DC04-4212-BA95-77C8CF1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6B54E-1BC8-41E8-8614-11613A8A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5CBF6-6EDC-4960-9194-021593F5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A724-5DD1-4E24-854D-5D49C3B9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C238D-7382-4442-9FE7-2DED6FE2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0E682-35AB-4822-92E2-25C1BA3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3549-E628-4D98-8A4C-0E39F27B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91A5-84BA-4031-B764-F97B2AF6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53B1C-23F9-4482-84E5-BD6B9DE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73395-B10C-4C70-8E30-195E311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A165-8D61-4337-953B-2E49B29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2EF-CAAA-47E7-BD6D-E314B534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599A3-2E1D-489E-8F93-45CA93A8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24714-AFEB-4037-9957-1E17C731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3299C-642D-4FAD-89D4-E4A34E67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ABCD9-A224-4F61-B2F2-99E89940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3EFBE-E7F6-4F64-B278-AD7CBB86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386A5-D7FA-4E34-AF35-6FFD6386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821E-D7CC-48CA-8D28-AD9FCED5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D4A16-AF17-43ED-873C-F18AFF2E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8AB8B-4690-4CAD-83F3-1DAD4EDB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F9C68-A732-407D-9436-D9735CE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C4D-2CC1-4AC0-BDEF-4740B3C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48452-3C28-4086-A79D-D49D6B22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6CCF8-CC35-4965-B049-0F44278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C0A5B-B404-4430-89AD-7F9F09E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8FF8-3E93-448C-B8E0-02916634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C71E9-EDF9-4025-9F26-8C18EFF7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130-F485-4649-8DFD-8EC71F6D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E55F-7FFF-4CF4-AE22-8CBEC704132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68F-A00E-4F2C-BE82-8C9710FB9EAC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84AA-3E09-4241-A5C1-F999FD181BD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8A09-DC0D-438A-B000-4501CDEF52DE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5118-B83C-4852-A1B4-180425906B24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E762-380A-47E6-AD0B-95D1DB69F8F9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4469-49E5-4D16-973B-7F2186C3FC51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図 4" descr=""/>
          <p:cNvPicPr/>
          <p:nvPr/>
        </p:nvPicPr>
        <p:blipFill>
          <a:blip r:embed="rId1"/>
          <a:stretch/>
        </p:blipFill>
        <p:spPr>
          <a:xfrm>
            <a:off x="5697360" y="5605560"/>
            <a:ext cx="1467000" cy="977760"/>
          </a:xfrm>
          <a:prstGeom prst="rect">
            <a:avLst/>
          </a:prstGeom>
          <a:ln w="0">
            <a:noFill/>
          </a:ln>
        </p:spPr>
      </p:pic>
      <p:pic>
        <p:nvPicPr>
          <p:cNvPr id="336" name="図 1" descr=""/>
          <p:cNvPicPr/>
          <p:nvPr/>
        </p:nvPicPr>
        <p:blipFill>
          <a:blip r:embed="rId2"/>
          <a:stretch/>
        </p:blipFill>
        <p:spPr>
          <a:xfrm>
            <a:off x="1547640" y="4782960"/>
            <a:ext cx="1351080" cy="900360"/>
          </a:xfrm>
          <a:prstGeom prst="rect">
            <a:avLst/>
          </a:prstGeom>
          <a:ln w="0">
            <a:noFill/>
          </a:ln>
        </p:spPr>
      </p:pic>
      <p:pic>
        <p:nvPicPr>
          <p:cNvPr id="337" name="図 5" descr=""/>
          <p:cNvPicPr/>
          <p:nvPr/>
        </p:nvPicPr>
        <p:blipFill>
          <a:blip r:embed="rId3"/>
          <a:stretch/>
        </p:blipFill>
        <p:spPr>
          <a:xfrm>
            <a:off x="4711680" y="5619600"/>
            <a:ext cx="1228680" cy="9637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9"/>
          <p:cNvSpPr/>
          <p:nvPr/>
        </p:nvSpPr>
        <p:spPr>
          <a:xfrm>
            <a:off x="412920" y="333360"/>
            <a:ext cx="8335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人気の抹茶と、粉末ほうじ茶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主にクッキング用としてご利用いただけ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1833480" y="2216160"/>
            <a:ext cx="1656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容量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4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産地：国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参考上代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55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円（税別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ＪＡＮ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49945401118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入数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賞味期限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ヶ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765080" y="157320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92d050"/>
                </a:solidFill>
                <a:latin typeface="HGP創英角ｺﾞｼｯｸUB"/>
                <a:ea typeface="HGP創英角ｺﾞｼｯｸUB"/>
              </a:rPr>
              <a:t>抹  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HGS創英角ﾎﾟｯﾌﾟ体"/>
              </a:rPr>
              <a:t>MAT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1752480" y="3624120"/>
            <a:ext cx="27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ックに扮したネコの姿がひときわ目を惹く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宇治産のお手軽タイプの抹茶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添加物などない、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茶葉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％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そのままお飲み頂けますし、お菓子作りやアイス、かき氷にかけたり、牛乳に溶かして、美味しい抹茶ラテが楽し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図 4" descr=""/>
          <p:cNvPicPr/>
          <p:nvPr/>
        </p:nvPicPr>
        <p:blipFill>
          <a:blip r:embed="rId4"/>
          <a:stretch/>
        </p:blipFill>
        <p:spPr>
          <a:xfrm>
            <a:off x="324000" y="4772160"/>
            <a:ext cx="1369800" cy="9126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0"/>
          <p:cNvSpPr/>
          <p:nvPr/>
        </p:nvSpPr>
        <p:spPr>
          <a:xfrm>
            <a:off x="6153120" y="2222640"/>
            <a:ext cx="16556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容量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4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産地：国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参考上代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55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円（税別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ＪＡＮ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49945401117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入数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賞味期限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ヶ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6015960" y="157320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0000"/>
                </a:solidFill>
                <a:latin typeface="HGP創英角ｺﾞｼｯｸUB"/>
                <a:ea typeface="HGP創英角ｺﾞｼｯｸUB"/>
              </a:rPr>
              <a:t>ほうじ粉末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HGS創英角ﾎﾟｯﾌﾟ体"/>
              </a:rPr>
              <a:t>ROASTED MAT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6051600" y="3624120"/>
            <a:ext cx="27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ックに扮したクマの姿がひときわ目を惹く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無農薬で作られたほうじ粉末茶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イタリアンロースト風に、強めに焙煎したほうじ茶を、パウダー状にしました。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茶葉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％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そのままお飲み頂けますし、お菓子作りやアイス、かき氷にかけたり、牛乳に溶かして、美味しいほうじ茶ラテが楽し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図 2" descr=""/>
          <p:cNvPicPr/>
          <p:nvPr/>
        </p:nvPicPr>
        <p:blipFill>
          <a:blip r:embed="rId5"/>
          <a:stretch/>
        </p:blipFill>
        <p:spPr>
          <a:xfrm>
            <a:off x="324000" y="5691240"/>
            <a:ext cx="1223640" cy="906480"/>
          </a:xfrm>
          <a:prstGeom prst="rect">
            <a:avLst/>
          </a:prstGeom>
          <a:ln w="0">
            <a:noFill/>
          </a:ln>
        </p:spPr>
      </p:pic>
      <p:pic>
        <p:nvPicPr>
          <p:cNvPr id="347" name="図 4" descr=""/>
          <p:cNvPicPr/>
          <p:nvPr/>
        </p:nvPicPr>
        <p:blipFill>
          <a:blip r:embed="rId6"/>
          <a:stretch/>
        </p:blipFill>
        <p:spPr>
          <a:xfrm>
            <a:off x="4716360" y="4829040"/>
            <a:ext cx="1224000" cy="816120"/>
          </a:xfrm>
          <a:prstGeom prst="rect">
            <a:avLst/>
          </a:prstGeom>
          <a:ln w="0">
            <a:noFill/>
          </a:ln>
        </p:spPr>
      </p:pic>
      <p:pic>
        <p:nvPicPr>
          <p:cNvPr id="348" name="図 2" descr=""/>
          <p:cNvPicPr/>
          <p:nvPr/>
        </p:nvPicPr>
        <p:blipFill>
          <a:blip r:embed="rId7"/>
          <a:stretch/>
        </p:blipFill>
        <p:spPr>
          <a:xfrm>
            <a:off x="5940360" y="4829040"/>
            <a:ext cx="1224000" cy="816120"/>
          </a:xfrm>
          <a:prstGeom prst="rect">
            <a:avLst/>
          </a:prstGeom>
          <a:ln w="0">
            <a:noFill/>
          </a:ln>
        </p:spPr>
      </p:pic>
      <p:pic>
        <p:nvPicPr>
          <p:cNvPr id="349" name="図 3" descr=""/>
          <p:cNvPicPr/>
          <p:nvPr/>
        </p:nvPicPr>
        <p:blipFill>
          <a:blip r:embed="rId8"/>
          <a:stretch/>
        </p:blipFill>
        <p:spPr>
          <a:xfrm>
            <a:off x="1547640" y="5691240"/>
            <a:ext cx="1351080" cy="900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9"/>
          <a:stretch/>
        </p:blipFill>
        <p:spPr>
          <a:xfrm>
            <a:off x="7885080" y="6216480"/>
            <a:ext cx="1025640" cy="452520"/>
          </a:xfrm>
          <a:prstGeom prst="rect">
            <a:avLst/>
          </a:prstGeom>
          <a:ln w="0">
            <a:noFill/>
          </a:ln>
        </p:spPr>
      </p:pic>
      <p:pic>
        <p:nvPicPr>
          <p:cNvPr id="351" name="図 7" descr=""/>
          <p:cNvPicPr/>
          <p:nvPr/>
        </p:nvPicPr>
        <p:blipFill>
          <a:blip r:embed="rId10"/>
          <a:stretch/>
        </p:blipFill>
        <p:spPr>
          <a:xfrm>
            <a:off x="237960" y="2162160"/>
            <a:ext cx="1455840" cy="22035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6"/>
          <p:cNvSpPr/>
          <p:nvPr/>
        </p:nvSpPr>
        <p:spPr>
          <a:xfrm>
            <a:off x="2959200" y="4791240"/>
            <a:ext cx="1533600" cy="703080"/>
          </a:xfrm>
          <a:prstGeom prst="rect">
            <a:avLst/>
          </a:prstGeom>
          <a:noFill/>
          <a:ln w="158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発色が良い本抹茶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お料理やお菓子作りに最適です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％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％程度添加していただくだけで、美味しい抹茶メニューを作ることが出来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図 5" descr=""/>
          <p:cNvPicPr/>
          <p:nvPr/>
        </p:nvPicPr>
        <p:blipFill>
          <a:blip r:embed="rId11"/>
          <a:stretch/>
        </p:blipFill>
        <p:spPr>
          <a:xfrm>
            <a:off x="4551480" y="2119320"/>
            <a:ext cx="1427040" cy="22464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6"/>
          <p:cNvSpPr/>
          <p:nvPr/>
        </p:nvSpPr>
        <p:spPr>
          <a:xfrm>
            <a:off x="7219800" y="4843440"/>
            <a:ext cx="1533600" cy="550800"/>
          </a:xfrm>
          <a:prstGeom prst="rect">
            <a:avLst/>
          </a:pr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粒子の細かさは抹茶と同等なので、あらゆるものに添加することが可能です。ほうじ茶は抹茶に次いで今非常に人気のある素材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15:25Z</dcterms:created>
  <dc:creator>カネイ一言製茶㈱　岩瀬</dc:creator>
  <dc:description/>
  <dc:language>en-US</dc:language>
  <cp:lastModifiedBy>長舩　知行</cp:lastModifiedBy>
  <cp:lastPrinted>2019-01-20T22:15:58Z</cp:lastPrinted>
  <dcterms:modified xsi:type="dcterms:W3CDTF">2019-01-20T22:16:33Z</dcterms:modified>
  <cp:revision>279</cp:revision>
  <dc:subject/>
  <dc:title>三井食品㈱様</dc:title>
</cp:coreProperties>
</file>