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33C6-6F3D-48F1-A597-2F13394D0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58DA-2F66-4A90-98E9-CFF2AA56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64AE-86F3-4B3D-A13C-5D272FF78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FAE8-96A2-4971-AFAC-E346DE191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4699-F727-4875-93F9-927B42049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3B3B-1F9F-45B4-B2E1-EE828739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8319-C833-468F-A961-6B2E469A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A5F4-21AD-45B4-A827-9CE926A6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0A4F-0C48-40D1-B5E4-7A2992D3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1100-007C-4C9D-AE28-EA09E536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C3DD-8C03-49E9-99C5-F7965803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DEE4-48D7-4CBB-A06A-D57AF8E8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4E43-349A-464F-B16C-E7A2CC6A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8AE5-DB30-48CF-ADFC-D2F6DF7A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AE1E-2525-4320-90D5-10E129C7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239A-1FC9-451A-83E3-4F88EB49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72EC-98E2-495B-A423-80F2DFB20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02D19-65A0-4250-A217-433F7A4E1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809B8-FDB9-4413-B634-FD0FB064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786FE-3EBA-4C93-8E5E-95B74725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6CEE4-3D46-41D7-AF2A-6B76B21A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3775B-D10A-4F83-A5D2-00B6430B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BC13-B91A-43F6-A35B-22A3CE44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323BB-07F4-453E-B940-11E9F806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40D7D-6062-4561-8C91-881F0773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43134-46D6-425F-A8D2-1672D1EC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9DFF9-BFF0-482F-802E-E2460282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40FBA-6DE9-43FB-94BD-F389F402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9BB26-5D7D-428D-A7EC-61D0CAEC5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A9053-3E04-42C6-8729-980F48A59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9ADFA-83BD-4AD3-B185-6CC2AF83C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4CB1A-40F1-4803-BE93-ACE34512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3610D-BF36-4E1A-AA49-537F2F9F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8CD5-A027-48D7-8335-85968FED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8AB6B-5211-4F56-AFEC-6CC06FBE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D1B0A-5C53-499A-B418-9473BBEC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013E2-ECB1-4062-8E33-5272C188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FB79F-AC31-4387-A1D7-D2D16D7C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795CB-7B27-4AF1-9B74-53A7BA47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7B1B7-AC5E-466A-AE3B-D05F0800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3B0E8-CCE4-4FF6-B761-D653298D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5319F-CC93-46F4-9300-5E9CA6E2A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85CC6-C177-44CC-8551-659BFD69E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BBBCD-C043-4309-9213-ECA2A4013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6064-319C-4549-B3E4-733A78CE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EFE34-B78B-497B-9C52-2A228FF1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F06EC-945B-4BB4-ADEF-53395A36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69FE2-0CDE-49CA-956E-E90A3AAF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4C418-2FE5-467C-8AD0-179C2C0A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D5A45-3252-41C1-B54C-82D52309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F7DF0-5410-4EDC-AB43-C396748B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30189-3EC3-4166-8587-C11D002C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CDCC6-6745-4B33-A81A-B86931B5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87460-F4E6-4258-A7D5-D8E89638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B911D-2196-4E6A-94A7-D8E9A27DE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5313-E431-4056-AEA7-E0717BF7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669B6-B2D5-4540-B640-CB29066CF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E0866-5C7C-46A9-B847-87D579A54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6F39F-66C9-4B20-A5C1-EC9B101D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6707B-BCF5-4263-B654-317F61F7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5EEA2-7B07-42BA-9B59-648DE37D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6F974-79F4-42BE-AA93-A47DDBD3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6FA39-19FC-4504-A4C5-3374A947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BD8CF-8337-4AFA-B460-02BE4FFA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D6941-882B-4222-9BEC-40D620B5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8E475-D957-4E74-977D-7E928676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A934-44F3-417B-BB18-1B788259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6F616-A8B6-465A-873D-CC16EEF2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037CD-6B0D-49BC-A351-5655457D4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E0FD2-CE3D-472B-B099-B370548B3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01079-D587-49EE-B4CE-30A8D531E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FE483-13C0-494E-A51E-60BD88DC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A6F58-63AD-4FDE-9DF6-EDDBA1D2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14B8B-4ED1-4B5F-9F5E-291E7765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27AA3-4AF9-461F-B7D9-97AA658F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CA451-E8E8-4DF1-A767-C688EA76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E188A-E210-4261-AAD9-F3FA8846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A817-5BB8-4262-A65B-D7E627C7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84AD6-D2B1-49B6-B460-3BCF8988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C2909-AFAB-42BA-BCF6-8EFA4407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07A98-C7BA-43A6-8748-493CB417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30DFA-1689-454F-9D5E-1F4B967B4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3BBD0-6019-4A40-AD76-A9CB3B084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DEBE-06FC-4015-ADDF-DB2ACEA8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A8D2-5080-4F54-8E14-49727A3DDF0D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422E-AFB1-4433-AD29-864982EE5B21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F6C7-19C0-4E21-B71F-C5AF501D3C8B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6A79-4E82-4A6C-B42D-C113C57A7710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5B65-3A34-4428-AC6D-F091BEA157D1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4F6D-4044-4712-B47E-7082B9846D8A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81AA-DFF3-49E6-A068-5AA8C9199C98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Oval 8"/>
          <p:cNvSpPr/>
          <p:nvPr/>
        </p:nvSpPr>
        <p:spPr>
          <a:xfrm>
            <a:off x="2843280" y="1844640"/>
            <a:ext cx="2592360" cy="64944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412920" y="549360"/>
            <a:ext cx="75438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c6e7fc"/>
                </a:solidFill>
                <a:latin typeface="Arial"/>
                <a:ea typeface="ＭＳ Ｐゴシック"/>
              </a:rPr>
              <a:t>老舗の黄金ブレンド</a:t>
            </a:r>
            <a:br>
              <a:rPr sz="3900"/>
            </a:br>
            <a:r>
              <a:rPr b="1" lang="ja-JP" sz="3200" spc="-1" strike="noStrike">
                <a:solidFill>
                  <a:srgbClr val="808000"/>
                </a:solidFill>
                <a:latin typeface="Arial"/>
                <a:ea typeface="ＭＳ Ｐゴシック"/>
              </a:rPr>
              <a:t>お茶を飲んだ時の感動を大切にしまし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2987640" y="2708280"/>
            <a:ext cx="259236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静岡　香りある煎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容量：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100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希望小売価格：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760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円（本体価格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産地：静岡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ＪＡＮ：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49945401060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2"/>
          <p:cNvSpPr/>
          <p:nvPr/>
        </p:nvSpPr>
        <p:spPr>
          <a:xfrm>
            <a:off x="6084720" y="2709720"/>
            <a:ext cx="2664000" cy="20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静岡　コクのある煎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容量：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100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希望小売価格：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570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円（本体価格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産地：静岡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ＪＡＮ：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499454010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誰が飲まれても、コクのあるお茶だと、感じ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頂けるようなブレンドを工夫しました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深蒸し系の茶葉と、さらに強めに蒸した特蒸し系の茶葉をブレンドする事により、コクを強調しました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何よりも、濃厚でコクのある味わいを優先し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ブレンドを行ってお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3"/>
          <p:cNvSpPr/>
          <p:nvPr/>
        </p:nvSpPr>
        <p:spPr>
          <a:xfrm>
            <a:off x="3373560" y="19828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  <a:ea typeface="HGS創英角ﾎﾟｯﾌﾟ体"/>
              </a:rPr>
              <a:t>香り重視したブレン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4"/>
          <p:cNvSpPr/>
          <p:nvPr/>
        </p:nvSpPr>
        <p:spPr>
          <a:xfrm>
            <a:off x="5938920" y="1844640"/>
            <a:ext cx="2592360" cy="6494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5"/>
          <p:cNvSpPr/>
          <p:nvPr/>
        </p:nvSpPr>
        <p:spPr>
          <a:xfrm>
            <a:off x="7102440" y="1982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  <a:ea typeface="HGS創英角ﾎﾟｯﾌﾟ体"/>
              </a:rPr>
              <a:t>伝統息づく、都のお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4079160" y="4005360"/>
            <a:ext cx="300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誰が飲まれても、まず香りのあるお茶だと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感じて頂けるようなブレンドを工夫しました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浅蒸し系の茶葉と、強めに乾燥した茎茶を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ブレンドする事により、香りを強調しました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何よりも、香りを感じて頂ける事を優先し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ブレンドを行ってお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23" descr="香りある煎茶"/>
          <p:cNvPicPr/>
          <p:nvPr/>
        </p:nvPicPr>
        <p:blipFill>
          <a:blip r:embed="rId1"/>
          <a:stretch/>
        </p:blipFill>
        <p:spPr>
          <a:xfrm>
            <a:off x="4950000" y="2637000"/>
            <a:ext cx="630000" cy="12967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4" descr="コクのある煎茶"/>
          <p:cNvPicPr/>
          <p:nvPr/>
        </p:nvPicPr>
        <p:blipFill>
          <a:blip r:embed="rId2"/>
          <a:stretch/>
        </p:blipFill>
        <p:spPr>
          <a:xfrm>
            <a:off x="8028000" y="2637000"/>
            <a:ext cx="625320" cy="1296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5" descr=""/>
          <p:cNvPicPr/>
          <p:nvPr/>
        </p:nvPicPr>
        <p:blipFill>
          <a:blip r:embed="rId3"/>
          <a:stretch/>
        </p:blipFill>
        <p:spPr>
          <a:xfrm>
            <a:off x="476280" y="1917720"/>
            <a:ext cx="2152800" cy="287964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26"/>
          <p:cNvSpPr/>
          <p:nvPr/>
        </p:nvSpPr>
        <p:spPr>
          <a:xfrm>
            <a:off x="1143360" y="4770360"/>
            <a:ext cx="88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カネイ一言製茶㈱　茶師：一言　進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7"/>
          <p:cNvSpPr/>
          <p:nvPr/>
        </p:nvSpPr>
        <p:spPr>
          <a:xfrm>
            <a:off x="2823840" y="5375160"/>
            <a:ext cx="1295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老舗の黄金ブレンドとは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製茶業に携わっ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年になるベテラン職人が、商品特徴にあった品質になるように工夫をし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ブレンドを行いまし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長年の勘と経験を生かした、仕上げ技術やブレンド技術は、誰も真似のできない職人芸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黄金ブレンドと呼ばれてお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8"/>
          <p:cNvSpPr/>
          <p:nvPr/>
        </p:nvSpPr>
        <p:spPr>
          <a:xfrm>
            <a:off x="395280" y="5300640"/>
            <a:ext cx="604836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17" descr=""/>
          <p:cNvPicPr/>
          <p:nvPr/>
        </p:nvPicPr>
        <p:blipFill>
          <a:blip r:embed="rId4"/>
          <a:stretch/>
        </p:blipFill>
        <p:spPr>
          <a:xfrm>
            <a:off x="7088040" y="6237360"/>
            <a:ext cx="1731960" cy="35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7:15:25Z</dcterms:created>
  <dc:creator>カネイ一言製茶㈱　岩瀬</dc:creator>
  <dc:description/>
  <dc:language>en-US</dc:language>
  <cp:lastModifiedBy>長舩　知行</cp:lastModifiedBy>
  <cp:lastPrinted>2018-07-02T01:36:32Z</cp:lastPrinted>
  <dcterms:modified xsi:type="dcterms:W3CDTF">2019-01-23T23:04:00Z</dcterms:modified>
  <cp:revision>99</cp:revision>
  <dc:subject/>
  <dc:title>三井食品㈱様</dc:title>
</cp:coreProperties>
</file>