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1F9-92F7-4854-B163-36262287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2495-B2E5-45E0-B19C-850514DF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889-9C86-4256-8A25-CF020961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39E-BB9F-4D5A-8D0A-FA009BED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170-651D-4D68-8BC8-68CE04C0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C05F-F2F2-4AF8-B958-C7770C72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CA9-0D00-44D7-A8AC-3F726CAE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D9F2-CFAB-415E-B0E1-F30E8077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E43-559F-4268-916E-90526975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FDEA-BB2D-4F6A-B250-27583952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54A-437B-406B-9C0E-2C5FC5DD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6C5B-C5B8-4B08-81D6-F0A63961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EDC9-1EA0-4E43-982C-FE7A386CAD60}" type="slidenum">
              <a:rPr b="0" lang="en-US" sz="9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楕円 1"/>
          <p:cNvSpPr/>
          <p:nvPr/>
        </p:nvSpPr>
        <p:spPr>
          <a:xfrm>
            <a:off x="4379760" y="2913120"/>
            <a:ext cx="4481640" cy="1604880"/>
          </a:xfrm>
          <a:prstGeom prst="ellipse">
            <a:avLst/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79520" y="109440"/>
            <a:ext cx="6392880" cy="118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金の深蒸し茶＝</a:t>
            </a:r>
            <a:br>
              <a:rPr sz="3600"/>
            </a:br>
            <a:r>
              <a:rPr b="1" lang="ja-JP" sz="3600" spc="-1" strike="noStrike">
                <a:solidFill>
                  <a:srgbClr val="000000"/>
                </a:solidFill>
                <a:latin typeface="HGP創英ﾌﾟﾚｾﾞﾝｽEB"/>
                <a:ea typeface="HGP創英ﾌﾟﾚｾﾞﾝｽEB"/>
              </a:rPr>
              <a:t>老舗茶師のこだわり仕上げ茶</a:t>
            </a:r>
            <a:endParaRPr b="0" lang="en-US" sz="3600" spc="-1" strike="noStrike">
              <a:solidFill>
                <a:srgbClr val="000000"/>
              </a:solidFill>
              <a:latin typeface="游ゴシック Light"/>
            </a:endParaRPr>
          </a:p>
        </p:txBody>
      </p:sp>
      <p:pic>
        <p:nvPicPr>
          <p:cNvPr id="43" name="Picture 25" descr=""/>
          <p:cNvPicPr/>
          <p:nvPr/>
        </p:nvPicPr>
        <p:blipFill>
          <a:blip r:embed="rId1"/>
          <a:stretch/>
        </p:blipFill>
        <p:spPr>
          <a:xfrm>
            <a:off x="282600" y="2347920"/>
            <a:ext cx="1968480" cy="2633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6"/>
          <p:cNvSpPr/>
          <p:nvPr/>
        </p:nvSpPr>
        <p:spPr>
          <a:xfrm>
            <a:off x="856080" y="498168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カネイ一言製茶㈱　茶師：一言　進　</a:t>
            </a:r>
            <a:endParaRPr b="0" lang="en-US" sz="1000" spc="-1" strike="noStrike">
              <a:solidFill>
                <a:srgbClr val="000000"/>
              </a:solidFill>
              <a:latin typeface="游ゴシック"/>
            </a:endParaRPr>
          </a:p>
        </p:txBody>
      </p:sp>
      <p:pic>
        <p:nvPicPr>
          <p:cNvPr id="45" name="図 20" descr="http://omaezaki-cha.net/tsuyuhikari/img/img01-1.jpg"/>
          <p:cNvPicPr/>
          <p:nvPr/>
        </p:nvPicPr>
        <p:blipFill>
          <a:blip r:embed="rId2"/>
          <a:stretch/>
        </p:blipFill>
        <p:spPr>
          <a:xfrm>
            <a:off x="254160" y="287280"/>
            <a:ext cx="1968480" cy="196524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1"/>
          <p:cNvSpPr/>
          <p:nvPr/>
        </p:nvSpPr>
        <p:spPr>
          <a:xfrm>
            <a:off x="5342040" y="1368360"/>
            <a:ext cx="368928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游ゴシック"/>
              </a:rPr>
              <a:t>商品名：　</a:t>
            </a:r>
            <a:r>
              <a:rPr b="1" lang="ja-JP" sz="1200" spc="-1" strike="noStrike">
                <a:solidFill>
                  <a:srgbClr val="000000"/>
                </a:solidFill>
                <a:latin typeface="游ゴシック"/>
              </a:rPr>
              <a:t>茶師一言進（ひとことすすむ）監修　　　　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游ゴシック"/>
              </a:rPr>
              <a:t>　　　　　金の深蒸し茶　匠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游ゴシック"/>
              </a:rPr>
              <a:t>内容量：　</a:t>
            </a:r>
            <a:r>
              <a:rPr b="0" lang="en-US" sz="1400" spc="-1" strike="noStrike">
                <a:solidFill>
                  <a:srgbClr val="000000"/>
                </a:solidFill>
                <a:latin typeface="游ゴシック"/>
              </a:rPr>
              <a:t>50</a:t>
            </a:r>
            <a:r>
              <a:rPr b="0" lang="ja-JP" sz="1400" spc="-1" strike="noStrike">
                <a:solidFill>
                  <a:srgbClr val="000000"/>
                </a:solidFill>
                <a:latin typeface="游ゴシック"/>
              </a:rPr>
              <a:t>ｇ</a:t>
            </a:r>
            <a:endParaRPr b="0" lang="en-US" sz="14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游ゴシック"/>
              </a:rPr>
              <a:t>賞味期限：製造後</a:t>
            </a: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游ゴシック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游ゴシック"/>
              </a:rPr>
              <a:t>入数：　　１０本</a:t>
            </a: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游ゴシック"/>
              </a:rPr>
              <a:t>ケース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游ゴシック"/>
              </a:rPr>
              <a:t>JAN:</a:t>
            </a:r>
            <a:r>
              <a:rPr b="0" lang="ja-JP" sz="1400" spc="-1" strike="noStrike">
                <a:solidFill>
                  <a:srgbClr val="000000"/>
                </a:solidFill>
                <a:latin typeface="游ゴシック"/>
              </a:rPr>
              <a:t>　　 </a:t>
            </a:r>
            <a:r>
              <a:rPr b="0" lang="en-US" sz="1400" spc="-1" strike="noStrike">
                <a:solidFill>
                  <a:srgbClr val="000000"/>
                </a:solidFill>
                <a:latin typeface="游ゴシック"/>
              </a:rPr>
              <a:t>4994540111646</a:t>
            </a:r>
            <a:endParaRPr b="0" lang="en-US" sz="14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7" name="テキスト ボックス 1"/>
          <p:cNvSpPr/>
          <p:nvPr/>
        </p:nvSpPr>
        <p:spPr>
          <a:xfrm>
            <a:off x="4416480" y="5105520"/>
            <a:ext cx="246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游ゴシック"/>
              </a:rPr>
              <a:t>通常</a:t>
            </a:r>
            <a:r>
              <a:rPr b="1" lang="en-US" sz="1200" spc="-1" strike="noStrike">
                <a:solidFill>
                  <a:srgbClr val="000000"/>
                </a:solidFill>
                <a:latin typeface="游ゴシック"/>
              </a:rPr>
              <a:t>100</a:t>
            </a:r>
            <a:r>
              <a:rPr b="1" lang="ja-JP" sz="1200" spc="-1" strike="noStrike">
                <a:solidFill>
                  <a:srgbClr val="000000"/>
                </a:solidFill>
                <a:latin typeface="游ゴシック"/>
              </a:rPr>
              <a:t>ｇ</a:t>
            </a:r>
            <a:r>
              <a:rPr b="1" lang="en-US" sz="1200" spc="-1" strike="noStrike">
                <a:solidFill>
                  <a:srgbClr val="000000"/>
                </a:solidFill>
                <a:latin typeface="游ゴシック"/>
              </a:rPr>
              <a:t>/1,000</a:t>
            </a:r>
            <a:r>
              <a:rPr b="1" lang="ja-JP" sz="1200" spc="-1" strike="noStrike">
                <a:solidFill>
                  <a:srgbClr val="000000"/>
                </a:solidFill>
                <a:latin typeface="游ゴシック"/>
              </a:rPr>
              <a:t>円の商品だと、価格でなかなか手が出しにくいというお客様でも、お試し感覚で手に取りやすい価格帯です。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游ゴシック"/>
              </a:rPr>
              <a:t>お茶の品質の良さが伝わるようなネーミングにもこだわりました。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pic>
        <p:nvPicPr>
          <p:cNvPr id="48" name="図 2" descr=""/>
          <p:cNvPicPr/>
          <p:nvPr/>
        </p:nvPicPr>
        <p:blipFill>
          <a:blip r:embed="rId3"/>
          <a:stretch/>
        </p:blipFill>
        <p:spPr>
          <a:xfrm>
            <a:off x="7086600" y="4981680"/>
            <a:ext cx="1944720" cy="1700280"/>
          </a:xfrm>
          <a:prstGeom prst="rect">
            <a:avLst/>
          </a:prstGeom>
          <a:ln w="0">
            <a:noFill/>
          </a:ln>
        </p:spPr>
      </p:pic>
      <p:pic>
        <p:nvPicPr>
          <p:cNvPr id="49" name="図 2" descr=""/>
          <p:cNvPicPr/>
          <p:nvPr/>
        </p:nvPicPr>
        <p:blipFill>
          <a:blip r:embed="rId4"/>
          <a:stretch/>
        </p:blipFill>
        <p:spPr>
          <a:xfrm>
            <a:off x="2386080" y="1565280"/>
            <a:ext cx="1619280" cy="340848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1"/>
          <p:cNvSpPr/>
          <p:nvPr/>
        </p:nvSpPr>
        <p:spPr>
          <a:xfrm>
            <a:off x="282600" y="5310360"/>
            <a:ext cx="35956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548235"/>
                </a:solidFill>
                <a:latin typeface="游ゴシック"/>
              </a:rPr>
              <a:t>茶師＝匠の技</a:t>
            </a:r>
            <a:endParaRPr b="0" lang="en-US" sz="16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游ゴシック"/>
              </a:rPr>
              <a:t>一言進</a:t>
            </a:r>
            <a:r>
              <a:rPr b="0" lang="ja-JP" sz="1200" spc="-1" strike="noStrike">
                <a:solidFill>
                  <a:srgbClr val="000000"/>
                </a:solidFill>
                <a:latin typeface="游ゴシック"/>
              </a:rPr>
              <a:t>（ひとことすすむ）は茶師歴一筋</a:t>
            </a: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50</a:t>
            </a:r>
            <a:r>
              <a:rPr b="0" lang="ja-JP" sz="1200" spc="-1" strike="noStrike">
                <a:solidFill>
                  <a:srgbClr val="000000"/>
                </a:solidFill>
                <a:latin typeface="游ゴシック"/>
              </a:rPr>
              <a:t>余年の、弊社最高茶師です。その磨かれた合組技術で、深蒸し茶が持つ素材の旨みを引き出し、ほのかな渋みと相まって、抜群の飲みごたえを愉しむことが出来るお茶に仕上げております。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1" name="テキスト ボックス 1"/>
          <p:cNvSpPr/>
          <p:nvPr/>
        </p:nvSpPr>
        <p:spPr>
          <a:xfrm>
            <a:off x="4646520" y="3138480"/>
            <a:ext cx="4025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游ゴシック"/>
              </a:rPr>
              <a:t>核家族化や一人暮らしの世帯が増える今、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游ゴシック"/>
              </a:rPr>
              <a:t>少量で本当においしいものを楽しむ人が増えています。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游ゴシック"/>
              </a:rPr>
              <a:t>本商品は、</a:t>
            </a: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50</a:t>
            </a:r>
            <a:r>
              <a:rPr b="0" lang="ja-JP" sz="1200" spc="-1" strike="noStrike">
                <a:solidFill>
                  <a:srgbClr val="000000"/>
                </a:solidFill>
                <a:latin typeface="游ゴシック"/>
              </a:rPr>
              <a:t>ｇと通常のお茶商品（</a:t>
            </a: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游ゴシック"/>
              </a:rPr>
              <a:t>ｇ入り）の半分ではありますが、プレミアムなお茶を少しずつ楽しみたい今の</a:t>
            </a: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游ゴシック"/>
              </a:rPr>
              <a:t>０代以上のシニア世代のニーズに合った、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游ゴシック"/>
              </a:rPr>
              <a:t>こだわりの深蒸し茶です。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9699120" y="4938840"/>
            <a:ext cx="145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裏面には美味しい飲み方のご案内　</a:t>
            </a:r>
            <a:endParaRPr b="0" lang="en-US" sz="10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3" name="吹き出し: 四角形 2"/>
          <p:cNvSpPr/>
          <p:nvPr/>
        </p:nvSpPr>
        <p:spPr>
          <a:xfrm>
            <a:off x="4357800" y="4976640"/>
            <a:ext cx="2462040" cy="1705320"/>
          </a:xfrm>
          <a:prstGeom prst="wedgeRectCallout">
            <a:avLst>
              <a:gd name="adj1" fmla="val -56847"/>
              <a:gd name="adj2" fmla="val -39532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4" name="楕円 3"/>
          <p:cNvSpPr/>
          <p:nvPr/>
        </p:nvSpPr>
        <p:spPr>
          <a:xfrm>
            <a:off x="3878280" y="1270080"/>
            <a:ext cx="1476360" cy="1458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5" name="正方形/長方形 4"/>
          <p:cNvSpPr/>
          <p:nvPr/>
        </p:nvSpPr>
        <p:spPr>
          <a:xfrm>
            <a:off x="3818880" y="1469880"/>
            <a:ext cx="165564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希望小売価格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500</a:t>
            </a:r>
            <a:r>
              <a:rPr b="1" lang="ja-JP" sz="44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円</a:t>
            </a:r>
            <a:endParaRPr b="0" lang="en-US" sz="44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6" name="Text Box 26"/>
          <p:cNvSpPr/>
          <p:nvPr/>
        </p:nvSpPr>
        <p:spPr>
          <a:xfrm>
            <a:off x="5159520" y="469260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「　まずは手に取ってほしい！　」</a:t>
            </a:r>
            <a:endParaRPr b="0" lang="en-US" sz="1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7:15:25Z</dcterms:created>
  <dc:creator>カネイ一言製茶㈱　岩瀬</dc:creator>
  <dc:description/>
  <dc:language>en-US</dc:language>
  <cp:lastModifiedBy>長舩　知行</cp:lastModifiedBy>
  <cp:lastPrinted>2019-01-24T04:58:51Z</cp:lastPrinted>
  <dcterms:modified xsi:type="dcterms:W3CDTF">2019-01-24T04:59:19Z</dcterms:modified>
  <cp:revision>112</cp:revision>
  <dc:subject/>
  <dc:title>三井食品㈱様</dc:title>
</cp:coreProperties>
</file>