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5CD3-705C-429C-80F2-A285E3B74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840F-C678-4DD3-A248-15137F241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9F66-D2AD-4210-8669-26EEE8DD2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3DB6-8018-453D-8A33-A589762C8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BE6F2-55C7-4556-9CB7-A1AF7DB40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51A4A-BFEC-43CF-BAD8-547C71761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95BB7-AA0E-4DEE-9293-2798F5392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9B3CE-4BFB-4A2A-A627-2D8E4F2BC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EB3D2-EDFE-487F-9E66-B9C471CB7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E8285-2654-4EC5-B543-5C94E53A9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F17AD-1734-4385-AF6E-F6B952E3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0E18-5957-4DB9-8381-11EAB183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CC24C-87AB-44BF-9B25-F79762D6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EFBF0-5BF8-4479-8C96-8CAFE053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F35DC-2346-46F5-A6D2-042988743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573CE-3E2D-4005-8028-38824BF40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EB3A8-5BB9-4C22-83E9-A5A9F5239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54416-3D43-406C-ADC6-FB0F50CC4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81C19-6B47-4C01-A3AA-CEBBD2BA4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A3236-754E-4639-9FE5-01CCFDE92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987F5-C14C-4A42-9694-7AC04E515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954B0-FAFC-4C30-B5D9-7B3569B8B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6762-5FB9-405E-95C4-7510695F4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BC6DC-BB1B-4A19-AFD2-2421F9128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E76CD-653E-4890-B1D1-60C9C945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58B0F-6071-4651-A409-F1B38C85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B63B3-288F-44FE-8782-E56AAF95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15EAF-CD1D-4E63-B697-F9AAFB380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C9B30-7422-4567-8484-BD171EAE5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F769D-E85F-4682-B087-096612BD9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9CE2B-5B18-4832-BCD0-E6685FB43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90C02-D5EA-4D2C-8E3E-6723D465A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11E83-B9A9-4DEF-97E4-49F0A642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B460-5F60-4633-9C8D-DCC9C0D12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96FF7-7EF4-4BD9-9458-015505E36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DC4E4-3E25-4F0A-9C12-23EA3614E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C68B5-D265-4C9B-BA18-91C1D8E96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E5734-3CC9-4409-83D3-9299B25B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C76AC-8C83-4F8D-BB31-7DE8E529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B0591-03BC-4D0F-9712-B26698BD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2D5FB-C903-4F94-9121-2071A1C65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8E702-C254-4F35-815A-10EC89D78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1BD2C-2457-41BE-A176-AA3BC6378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EA829-6D47-4913-A478-F9D2B175F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8750-64D5-4CD4-A123-193E1C4D9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E4D97-CA2F-4A50-8F1F-72CA6BDB2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20ADC-B9D2-494F-ACF2-077F695BE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1B52D-4F86-4D87-A3A8-B866975D0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58364-572A-4ACE-B363-4A1311609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FC4BE-3B05-4A21-A08A-F668B4A97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8D7E4-1F6D-4F8E-BF41-B8ABCFCD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EACEC-F430-40FF-8971-27E43D8A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61C2E-8C60-4228-B8E6-B0FB85D4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E4E0F-0979-46D0-B40E-30B22A568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DF310-569D-4AB4-96DF-3FAEB0DCE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4C9D-6538-4ABB-8A2F-3DA6CF2BF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337B8-8CA1-490B-9977-E9437A34C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04C2F-68D1-4FD1-8F3B-FE6029789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DFF478-5FAF-44DC-A088-2F91960C6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AEE18-FB7C-475B-AA31-14D2769A3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8A19C4-AE26-4B44-A2FF-26B701B91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7754B-0891-47CD-9D3C-776D931D6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47A6E-E2F7-406B-A626-C567F327D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AC345-4009-485B-97D8-35B75EF0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2B9BA-8658-4A39-9F98-D31C4F6D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63FF5-0288-48F2-8B98-C33D83C8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ED55-8566-4CFE-85AF-07835E49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C83FE-428E-456D-B3BC-D7FEA3E01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2AF0F-8235-4CAB-8744-61FBB8DA3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396F2-395E-4280-B5AE-4B4B3E591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5651D-7B7B-4A76-83F9-75CDECFBE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E6ED15-65E2-4C1D-AC79-CF5F76541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82CFBB-9881-40F9-9219-BE8EC431A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825BC-E99A-4DB3-9196-5E47BC2D9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0986B-180D-4251-8B5C-01C6D3824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6FFE9-368D-4821-B28E-1949C1658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F5ED23-E3DF-4AC1-94AA-098A69AF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39F2-C98B-4936-8593-B0504A29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B53CD6-2B82-4395-968F-64107A74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90F742-9423-470C-80C5-19240DFC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5465D8-F267-46DB-999F-0F6F0735C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08FC5-81C4-4DAA-AF46-AF027F7C7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237B0D-1BD5-4A59-92AA-E25A71EBA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0036-5E6F-49E8-8178-C25102BC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93A3D-3106-4B85-BFC9-35AF73A406CA}" type="slidenum">
              <a:rPr b="0" lang="en-U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72A28-95F1-4385-ACBA-0F7400308175}" type="slidenum">
              <a:rPr b="0" lang="en-U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8DF19-4515-46F2-BA12-A17FD4A91E93}" type="slidenum">
              <a:rPr b="0" lang="en-U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8F1B6-2A89-4359-A7FE-FDE42C919976}" type="slidenum">
              <a:rPr b="0" lang="en-U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1AC8B-FDC9-4904-A978-8BFB1887DB7E}" type="slidenum">
              <a:rPr b="0" lang="en-U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36A86-2FC5-4F8F-86EB-5421AA36ABE8}" type="slidenum">
              <a:rPr b="0" lang="en-U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4F917-2E4B-4B0B-A65B-E12A3E77DB53}" type="slidenum">
              <a:rPr b="0" lang="en-U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円/楕円 4"/>
          <p:cNvSpPr/>
          <p:nvPr/>
        </p:nvSpPr>
        <p:spPr>
          <a:xfrm>
            <a:off x="2411280" y="3191040"/>
            <a:ext cx="2305080" cy="60156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9"/>
          <p:cNvSpPr/>
          <p:nvPr/>
        </p:nvSpPr>
        <p:spPr>
          <a:xfrm>
            <a:off x="468360" y="846000"/>
            <a:ext cx="84963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HGP明朝E"/>
                <a:ea typeface="HGP明朝E"/>
              </a:rPr>
              <a:t>メチル化カテキン含有の緑茶品種「べにふうき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テキスト ボックス 5"/>
          <p:cNvSpPr/>
          <p:nvPr/>
        </p:nvSpPr>
        <p:spPr>
          <a:xfrm>
            <a:off x="1219680" y="62064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小塚ゴシック Pr6N EL"/>
                <a:ea typeface="小塚ゴシック Pr6N EL"/>
              </a:rPr>
              <a:t>アレルギーを抑制する可能性があ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7885080" y="6216480"/>
            <a:ext cx="1025640" cy="452520"/>
          </a:xfrm>
          <a:prstGeom prst="rect">
            <a:avLst/>
          </a:prstGeom>
          <a:ln w="0">
            <a:noFill/>
          </a:ln>
        </p:spPr>
      </p:pic>
      <p:sp>
        <p:nvSpPr>
          <p:cNvPr id="339" name="テキスト ボックス 13"/>
          <p:cNvSpPr/>
          <p:nvPr/>
        </p:nvSpPr>
        <p:spPr>
          <a:xfrm>
            <a:off x="250920" y="5118120"/>
            <a:ext cx="198900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べにふうき緑茶　</a:t>
            </a:r>
            <a:r>
              <a:rPr b="1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（粉末茶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内容量：３５ｇ　（０．７ｇ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×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５０個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賞味期限：１年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入数：１０本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/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サイズ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420×H220×D285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A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99454011139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テキスト ボックス 18"/>
          <p:cNvSpPr/>
          <p:nvPr/>
        </p:nvSpPr>
        <p:spPr>
          <a:xfrm>
            <a:off x="2268360" y="4579920"/>
            <a:ext cx="40323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品は、使いやすさを重視して、べにふうき茶葉を粉末状にし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杯分の量で、スティックにしました。熱湯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㏄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に対して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をお使い頂き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また、粉末茶特有のダマになるなど、溶けにくさを解消する為、デキストリンを配合し、お湯だけでなく、水にも溶けやすくしてあ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最大の効能を引き出す為には、冷水や湯冷しした湯ではなく、　</a:t>
            </a:r>
            <a:r>
              <a:rPr b="1" lang="ja-JP" sz="800" spc="-1" strike="noStrike">
                <a:solidFill>
                  <a:srgbClr val="000000"/>
                </a:solidFill>
                <a:latin typeface="Arial"/>
              </a:rPr>
              <a:t>熱湯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で淹れてください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すりおろしたジンジャーを、少量お茶に加えて頂くと、さらに効果が期待でき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図 1" descr=""/>
          <p:cNvPicPr/>
          <p:nvPr/>
        </p:nvPicPr>
        <p:blipFill>
          <a:blip r:embed="rId2"/>
          <a:stretch/>
        </p:blipFill>
        <p:spPr>
          <a:xfrm>
            <a:off x="236520" y="2317680"/>
            <a:ext cx="1916280" cy="2662200"/>
          </a:xfrm>
          <a:prstGeom prst="rect">
            <a:avLst/>
          </a:prstGeom>
          <a:ln w="0">
            <a:noFill/>
          </a:ln>
        </p:spPr>
      </p:pic>
      <p:pic>
        <p:nvPicPr>
          <p:cNvPr id="342" name="図 2" descr=""/>
          <p:cNvPicPr/>
          <p:nvPr/>
        </p:nvPicPr>
        <p:blipFill>
          <a:blip r:embed="rId3"/>
          <a:stretch/>
        </p:blipFill>
        <p:spPr>
          <a:xfrm>
            <a:off x="6478560" y="4149720"/>
            <a:ext cx="2414520" cy="1825560"/>
          </a:xfrm>
          <a:prstGeom prst="rect">
            <a:avLst/>
          </a:prstGeom>
          <a:ln w="0">
            <a:noFill/>
          </a:ln>
        </p:spPr>
      </p:pic>
      <p:sp>
        <p:nvSpPr>
          <p:cNvPr id="343" name="テキスト ボックス 26"/>
          <p:cNvSpPr/>
          <p:nvPr/>
        </p:nvSpPr>
        <p:spPr>
          <a:xfrm>
            <a:off x="2268360" y="4292640"/>
            <a:ext cx="338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小塚ゴシック Pr6N M"/>
                <a:ea typeface="小塚ゴシック Pr6N M"/>
              </a:rPr>
              <a:t>1</a:t>
            </a:r>
            <a:r>
              <a:rPr b="0" lang="ja-JP" sz="1400" spc="-1" strike="noStrike">
                <a:solidFill>
                  <a:srgbClr val="0000ff"/>
                </a:solidFill>
                <a:latin typeface="小塚ゴシック Pr6N M"/>
                <a:ea typeface="小塚ゴシック Pr6N M"/>
              </a:rPr>
              <a:t>回使い切り スティックタイプ 粉末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テキスト ボックス 3"/>
          <p:cNvSpPr/>
          <p:nvPr/>
        </p:nvSpPr>
        <p:spPr>
          <a:xfrm>
            <a:off x="2589120" y="3311640"/>
            <a:ext cx="223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エピカテキン、エピカテキンガレー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エピガロカテキン、エピガロカテキンガレー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テキスト ボックス 26"/>
          <p:cNvSpPr/>
          <p:nvPr/>
        </p:nvSpPr>
        <p:spPr>
          <a:xfrm>
            <a:off x="2263680" y="2184480"/>
            <a:ext cx="367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小塚ゴシック Pr6N M"/>
                <a:ea typeface="小塚ゴシック Pr6N M"/>
              </a:rPr>
              <a:t>メチル化カテキンを含む、特別なお茶で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テキスト ボックス 24"/>
          <p:cNvSpPr/>
          <p:nvPr/>
        </p:nvSpPr>
        <p:spPr>
          <a:xfrm>
            <a:off x="2268360" y="2457360"/>
            <a:ext cx="664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品種茶「べにふうき」は、アレルギーを抑制する可能性がある（メチル化カテキン）を豊富に含むお茶で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一般的にカテキンには、茶カテキンと呼ばれる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成分があり、茶カテキンは多くの茶に存在しますが、メチル化カテキンは、ほぼ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この「べにふうき」だけです。　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一般に流通していない一部の品種あり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テキスト ボックス 5"/>
          <p:cNvSpPr/>
          <p:nvPr/>
        </p:nvSpPr>
        <p:spPr>
          <a:xfrm>
            <a:off x="3413160" y="3773520"/>
            <a:ext cx="295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cc00"/>
                </a:solidFill>
                <a:latin typeface="Arial"/>
                <a:ea typeface="ＭＳ Ｐゴシック"/>
              </a:rPr>
              <a:t>一般的な茶カテキ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テキスト ボックス 6"/>
          <p:cNvSpPr/>
          <p:nvPr/>
        </p:nvSpPr>
        <p:spPr>
          <a:xfrm>
            <a:off x="4764600" y="33098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円/楕円 28"/>
          <p:cNvSpPr/>
          <p:nvPr/>
        </p:nvSpPr>
        <p:spPr>
          <a:xfrm>
            <a:off x="5148360" y="3213000"/>
            <a:ext cx="1800000" cy="560520"/>
          </a:xfrm>
          <a:prstGeom prst="ellipse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テキスト ボックス 29"/>
          <p:cNvSpPr/>
          <p:nvPr/>
        </p:nvSpPr>
        <p:spPr>
          <a:xfrm>
            <a:off x="5148360" y="3332160"/>
            <a:ext cx="18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メチル化カテキ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テキスト ボックス 30"/>
          <p:cNvSpPr/>
          <p:nvPr/>
        </p:nvSpPr>
        <p:spPr>
          <a:xfrm>
            <a:off x="5442120" y="3773520"/>
            <a:ext cx="1140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ff33cc"/>
                </a:solidFill>
                <a:latin typeface="Arial"/>
                <a:ea typeface="ＭＳ Ｐゴシック"/>
              </a:rPr>
              <a:t>べにふうき　など　一部の品種のみ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07:15:25Z</dcterms:created>
  <dc:creator>カネイ一言製茶㈱　岩瀬</dc:creator>
  <dc:description/>
  <dc:language>en-US</dc:language>
  <cp:lastModifiedBy>長舩　知行</cp:lastModifiedBy>
  <cp:lastPrinted>2019-01-24T05:00:22Z</cp:lastPrinted>
  <dcterms:modified xsi:type="dcterms:W3CDTF">2019-01-24T05:00:30Z</dcterms:modified>
  <cp:revision>272</cp:revision>
  <dc:subject/>
  <dc:title>三井食品㈱様</dc:title>
</cp:coreProperties>
</file>